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AE41-2F70-4D42-8672-89BCEED5A3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DDE-1B07-421B-9894-589C1D80F974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AB38-7A35-406D-9C01-C250F53B916B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15BC-557D-4132-91D6-C1037DB29927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A25A-9A67-48E5-8CE6-9759BC67CCCA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AC48-ACED-49BA-ACBF-DB14E65C1BDA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D6BF-33E8-4DCC-BA91-54C948BB6C8C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679D-F6FB-4AAA-9490-7AC0E35B5C93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0F9A-9976-4B9B-8D22-D28F6523B75D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A413-EB4D-4CA5-94A6-152C07D744D7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D47B-E23C-48AA-9B98-155ABBB14E04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900-9038-417F-B1E3-41029760AFCB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F98E-FE3D-47D7-B1B0-30E56B5E0B40}" type="slidenum">
              <a:rPr b="0" lang="fr-CH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978-8898-4A00-B340-26968A06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1D8-B0D3-45BA-BCFC-FAE713F8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65C-89E8-4F81-B850-E598A038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828-D6DE-4997-B4C9-4EE8C2E0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0F8-7889-45AB-9FA4-2ACCDA9D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68F-8A39-41F5-92FC-03B5C6B1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5C3-56DC-4EC4-A357-CF0FA16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5E1-CCA0-47FE-ABC6-A43C80C3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BDB-3410-4833-97E3-9E5067D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18E-C718-43C9-AF3D-7DCD1DC9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83E-47A7-4E95-9737-2D48B39B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DFF-6D8D-48DB-8861-E6C34386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544E-4E3D-4CD5-8626-7B16CE0419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06080" indent="-40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Feminizing of the medical prof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080" indent="-406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(Situation 10.11.2009)</a:t>
            </a: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medical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rcRect l="0" t="4390" r="54688" b="6026"/>
          <a:stretch/>
        </p:blipFill>
        <p:spPr>
          <a:xfrm>
            <a:off x="2268360" y="1484280"/>
            <a:ext cx="3529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outpatien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4000" y="278136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rcRect l="0" t="4314" r="54676" b="6114"/>
          <a:stretch/>
        </p:blipFill>
        <p:spPr>
          <a:xfrm>
            <a:off x="2627280" y="1413000"/>
            <a:ext cx="3600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hospit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278136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0" t="3951" r="53967" b="7318"/>
          <a:stretch/>
        </p:blipFill>
        <p:spPr>
          <a:xfrm>
            <a:off x="2340000" y="1484280"/>
            <a:ext cx="3529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Overall fig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6440" y="2349360"/>
            <a:ext cx="7492680" cy="2560320"/>
            <a:chOff x="766440" y="2349360"/>
            <a:chExt cx="7492680" cy="2560320"/>
          </a:xfrm>
        </p:grpSpPr>
        <p:sp>
          <p:nvSpPr>
            <p:cNvPr id="67" name=""/>
            <p:cNvSpPr/>
            <p:nvPr/>
          </p:nvSpPr>
          <p:spPr>
            <a:xfrm>
              <a:off x="1729800" y="2454120"/>
              <a:ext cx="62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22040" y="24541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8480" y="287460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95240" y="287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n 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91200" y="287460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22240" y="287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in 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9640" y="3295440"/>
              <a:ext cx="1645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utpatient sect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9040" y="32954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43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7000" y="32954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9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73360" y="32954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65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35560" y="32954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0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35600" y="32954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09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6040" y="3717720"/>
              <a:ext cx="892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ospital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9040" y="3717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70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7000" y="371772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92520" y="3717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40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35560" y="371772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9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35600" y="371772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10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8200" y="414000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7964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37000" y="414000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8.1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1312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3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35560" y="414000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1.9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76800" y="41400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6400" y="4559040"/>
              <a:ext cx="114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700" spc="-1" strike="noStrike">
                  <a:solidFill>
                    <a:srgbClr val="000000"/>
                  </a:solidFill>
                  <a:latin typeface="Arial"/>
                </a:rPr>
                <a:t>Alltoge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028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1026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95600" y="45590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34.6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376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1938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94520" y="4559040"/>
              <a:ext cx="61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65.4%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7440" y="4559040"/>
              <a:ext cx="60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"/>
                </a:rPr>
                <a:t>2965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50200" y="2442960"/>
              <a:ext cx="74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Wom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01600" y="24429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Arial"/>
                </a:rPr>
                <a:t>Me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6440" y="2349360"/>
              <a:ext cx="74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6440" y="2349360"/>
              <a:ext cx="7492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6440" y="3182760"/>
              <a:ext cx="749268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6440" y="4457520"/>
              <a:ext cx="749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6440" y="4457520"/>
              <a:ext cx="74926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440" y="4868640"/>
              <a:ext cx="749268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Women’s ratio in students and grad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7"/>
          <p:cNvSpPr/>
          <p:nvPr/>
        </p:nvSpPr>
        <p:spPr>
          <a:xfrm>
            <a:off x="539640" y="170028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9"/>
          <p:cNvSpPr/>
          <p:nvPr/>
        </p:nvSpPr>
        <p:spPr>
          <a:xfrm>
            <a:off x="714240" y="550080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itle 1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7794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cc"/>
                </a:solidFill>
                <a:latin typeface="Arial"/>
              </a:rPr>
              <a:t>Development of women in medical prac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itle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081920" cy="396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3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Practising women’s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itle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4360" y="1700280"/>
            <a:ext cx="7369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Women’s progression by  sectors of medic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29792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Tendency of women’s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>
            <a:off x="539640" y="1628640"/>
            <a:ext cx="757260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9"/>
          <p:cNvSpPr/>
          <p:nvPr/>
        </p:nvSpPr>
        <p:spPr>
          <a:xfrm>
            <a:off x="684360" y="5805360"/>
            <a:ext cx="75009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609300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60930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26028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itle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77058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Women’s ratio in     speci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itle 1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1280" y="1484280"/>
            <a:ext cx="7490880" cy="4534920"/>
            <a:chOff x="611280" y="1484280"/>
            <a:chExt cx="7490880" cy="4534920"/>
          </a:xfrm>
        </p:grpSpPr>
        <p:graphicFrame>
          <p:nvGraphicFramePr>
            <p:cNvPr id="170" name=""/>
            <p:cNvGraphicFramePr/>
            <p:nvPr/>
          </p:nvGraphicFramePr>
          <p:xfrm>
            <a:off x="611280" y="1484280"/>
            <a:ext cx="7490880" cy="45349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280" y="1484280"/>
                      <a:ext cx="7490880" cy="45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/>
            <p:nvPr/>
          </p:nvSpPr>
          <p:spPr>
            <a:xfrm>
              <a:off x="5137560" y="2230560"/>
              <a:ext cx="0" cy="24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74840" y="406152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05080" y="45684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75960" y="30052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30440" y="247716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65920" y="194904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55840" y="43102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7320" y="325404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3840" y="482688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08080" y="379152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17720" y="35334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200" y="27468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37200" y="5087160"/>
              <a:ext cx="0" cy="246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5480" y="5355000"/>
              <a:ext cx="0" cy="24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53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cc"/>
                </a:solidFill>
                <a:latin typeface="Arial"/>
              </a:rPr>
              <a:t>Age’s distribution in the Swiss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4000" y="2708280"/>
            <a:ext cx="7500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7"/>
          <p:cNvSpPr/>
          <p:nvPr/>
        </p:nvSpPr>
        <p:spPr>
          <a:xfrm>
            <a:off x="539640" y="1413000"/>
            <a:ext cx="757260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9"/>
          <p:cNvSpPr/>
          <p:nvPr/>
        </p:nvSpPr>
        <p:spPr>
          <a:xfrm>
            <a:off x="684360" y="6021360"/>
            <a:ext cx="750096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6237360"/>
            <a:ext cx="33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cc"/>
                </a:solidFill>
                <a:latin typeface="Arial"/>
              </a:rPr>
              <a:t>E.A.N.A. Luxembourg 28-29.05.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84720" y="6237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©  Dr Yves Gui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189000"/>
          <a:ext cx="180324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18032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24360" y="537372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rcRect l="0" t="4082" r="54688" b="7563"/>
          <a:stretch/>
        </p:blipFill>
        <p:spPr>
          <a:xfrm>
            <a:off x="2411280" y="1557360"/>
            <a:ext cx="388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02:43Z</dcterms:created>
  <dc:creator>user</dc:creator>
  <dc:description/>
  <dc:language>en-US</dc:language>
  <cp:lastModifiedBy>user</cp:lastModifiedBy>
  <dcterms:modified xsi:type="dcterms:W3CDTF">2010-05-11T12:36:37Z</dcterms:modified>
  <cp:revision>5</cp:revision>
  <dc:subject/>
  <dc:title> </dc:title>
</cp:coreProperties>
</file>